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C60-7D77-41D0-AB0F-7ECCFD00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103-1EA8-4E1D-A20A-970F1DE1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9BE-0C68-471B-823E-5A3E13CD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BEC-23C2-4B62-896E-AE48D769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9E82-8393-471C-8826-2C02D3DB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CCD6-339C-4227-8F8A-177A3FA3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B451-ED79-4DC8-BB48-AF548D3B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A5EA-245B-45D6-B4D3-3B1666B5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5F51-4E87-4D6E-9E98-54CCD913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0769-C96E-4BC0-8E11-291E3841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7229-7E65-41BA-AAE0-AF6CD285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DB7-790E-471F-B6DA-B27865BC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9F82-6940-478A-A693-E1A1CDE6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3D03-51C4-437C-B64D-31BE49B8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2071-521E-48A5-8C68-94BB9236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7BE9-DDE4-497B-B77F-E85B3050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9778-BEF3-4F65-9FDC-3D6231AB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089-D6D1-4622-9DB3-815821A4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2B7-4383-4E37-81A5-D93EB1A1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374-F86F-4C85-9058-27E33B34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DAE-042C-4B15-8E20-EF734086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D5A-1F24-4902-A6D4-8EB14BF0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930-8737-484B-B270-5AEF4D2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5E9-3663-405A-B70F-C0B85167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B41A-ECBE-42FC-B9E5-2F95CD74E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3789360"/>
            <a:ext cx="3456000" cy="24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78A5-0A70-46BF-8D46-13B46B40F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图片3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423720" y="274680"/>
            <a:ext cx="3467160" cy="72396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7380360" y="1844640"/>
            <a:ext cx="1512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音乐</a:t>
            </a:r>
            <a:r>
              <a:rPr b="0" lang="en-US" sz="54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PPT</a:t>
            </a:r>
            <a:r>
              <a:rPr b="0" lang="zh-CN" sz="54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图片4"/>
          <p:cNvPicPr/>
          <p:nvPr/>
        </p:nvPicPr>
        <p:blipFill>
          <a:blip r:embed="rId1"/>
          <a:stretch/>
        </p:blipFill>
        <p:spPr>
          <a:xfrm>
            <a:off x="-252360" y="-4557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3274920" y="4149720"/>
            <a:ext cx="309744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c0c0"/>
                </a:solidFill>
                <a:latin typeface="宋体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3130560" y="1341360"/>
            <a:ext cx="309708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c0c0c0"/>
                </a:solidFill>
                <a:latin typeface="宋体"/>
              </a:rPr>
              <a:t>谢谢聆听</a:t>
            </a:r>
            <a:endParaRPr b="1" lang="en-US" sz="1800" spc="1" strike="noStrike">
              <a:ln w="0">
                <a:noFill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7:06:22Z</dcterms:created>
  <dc:creator>xingkong</dc:creator>
  <dc:description/>
  <dc:language>en-US</dc:language>
  <cp:lastModifiedBy>Administrator</cp:lastModifiedBy>
  <dcterms:modified xsi:type="dcterms:W3CDTF">2015-02-15T07:42:40Z</dcterms:modified>
  <cp:revision>6</cp:revision>
  <dc:subject/>
  <dc:title>幻灯片 1</dc:title>
</cp:coreProperties>
</file>